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B15-C53C-4FDF-8B76-09C9B80D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AF2-DED9-4F6F-873A-A9C11826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B08-2CBF-4A2D-ACE6-78B080E1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DB3-0781-4C7B-AF20-FA5B8ABF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DB4-E9DD-43E1-BD98-2C088DEC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3BD-0052-4B26-9C06-44A31C4C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787-F73E-4493-A3AD-E5B2460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480-4926-456D-8BE1-5C7EAE90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8A3-7EF9-4364-A253-073D01D8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9C8-4AB8-4D8B-83C1-2BE3DCF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90E-BA61-4352-9EDB-04C0E07C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0D0-A209-4F4F-B0E0-07F1C239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0E46-7CAF-4AA3-9DC1-B729A5250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Покланяме се, Отче в твоя хра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покланяме се в дух и истина сег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 песни и молитви хвалим Т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покланяме се в дух и истина сег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762120"/>
            <a:ext cx="9144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Само ден в твоя храм желая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Отче мо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вместо хиляди други далече от Теб.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21932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Покланяме се, Отче в твоя хра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покланяме се в дух и истина сег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 песни и молитви хвалим Т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покланяме се в дух и истина сег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71600"/>
            <a:ext cx="914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Само ден в твоя храм желая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Отче мо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вместо хиляди други далеч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от Теб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амо ден в твоя храм жела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тче мо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место хиляди други далече от Теб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место хиляди други далече от Теб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место хиляди други далече от Те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0:12:08Z</dcterms:created>
  <dc:creator>TrifonTrifonow</dc:creator>
  <dc:description/>
  <dc:language>en-US</dc:language>
  <cp:lastModifiedBy>TrifonTrifonow</cp:lastModifiedBy>
  <dcterms:modified xsi:type="dcterms:W3CDTF">2005-12-15T20:12:42Z</dcterms:modified>
  <cp:revision>1</cp:revision>
  <dc:subject/>
  <dc:title>Slide 1</dc:title>
</cp:coreProperties>
</file>